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4D15-C1BE-43BF-A6FC-70C23868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ed activities for all grade lev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ny intro and good to see successful differentiation in 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’s of good resources for assessment/forming groups for different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great tools for assessing learning style, interests and affinities to differenti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WebQuest generator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tter place to differentiate than in a WebQu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ood WebQuest generator with an emphasis on special needs instr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explanation needed here; lot’s of people saying they’re done with Word and use G-Docs exclus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probably used NING for classes at Neumann. Very amenable to the field of educ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ighlight/ stickynote feature looks c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words, puzzles, and… pizz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ictionary with pronounciation f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activities to go with the commonly used vocabulary s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’re done with your standardized testing you can use the Member Center to run reports to analyze your horribly-skewed data! Scratch your head with administrators and ask, Why are the post-test scores so much lower when the kids take it in late M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st companies are out to make more money. Easy and f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made rubrics and tools for creating your ow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ic rubrics that jump up in your face!? Well not really but the grading feature is cool. Plus, 143,000 rubrics avail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53A-D8BD-4DA5-93D6-4CF746BE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906-7B60-4AD7-A2F3-412A3A0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D1C-3FE9-43F5-A30B-123C216D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323-4E7B-4001-B4A7-95FB3892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447C-33AC-445D-BFBA-591732F3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5801-4AF3-402A-A6FD-265E30C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7F9-43AA-4347-B299-695322F2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3E97-D015-451C-9ADE-E6D2A7A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ADE1-7606-4389-A0CE-05D98E0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05D-5048-4CF8-B5CE-ACBFAC7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69D-3A27-413A-8F64-42F7FFE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7F6-5EAD-4072-A468-DF5920C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16CE-2E32-4E60-B88B-6D1051B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A5B-1D53-4C0E-AAC6-59A5108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086-E231-4805-A834-F4D4A5C9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D079-6FC5-41E3-B61F-943FF03C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7D5-3B0E-4A11-89ED-86C8020F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C060-6E83-4A1E-AC20-E9FFD4A5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240C-A32C-4FDF-9A6C-262A263A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FF55-D894-47C5-AAE3-FCAE01A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1B30-116C-45A4-8149-99D66D0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113C-66BC-44CA-8429-E0CDDA4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A0B-904F-4242-86ED-4F089ED0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C64D-938F-4A9A-A745-B2F3125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463B-7AD0-4E22-B8F9-DDFA9AC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A514-E057-4798-AD11-465659E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90C8-7837-499C-BFAC-0F57393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D719-69BA-4571-860F-477B407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9AFE-0A67-4E8E-A11E-24862B40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20DC-EB84-471D-A8B0-8B82052E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A6F6-C3AB-4359-983E-D592E5E0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6CA5-0B65-41A8-9648-83CBDE4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7F9B-C8B7-4312-9D4C-EF56F95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593-73F3-48B9-9ED9-245A17F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CCC8-9A69-47DB-862F-C3FCB85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0C56-4837-4E58-AFEE-596B169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470A-B320-43DB-88BF-5079BD5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B36E-7BF3-43FB-AFB6-551B027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4697-FEBA-42D5-A3E6-202FC73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3EB5-F9C8-419A-B592-3647411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729E-B74E-47E8-9E5D-884E837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9B9F-19FA-46D6-B388-DE23E397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1B6D-0FAE-4E60-A8F2-39CD088A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81E-24D2-4D10-A78B-D641949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3C8-E6BC-45AB-A5C3-C23E223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1E8-9C5A-497B-9B80-5501F2D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4F8-4CFB-49D2-93EE-022809A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9E1-506A-4989-B708-2F11479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D74F-619F-4EAA-ACC3-4E9A891F00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458B-1376-4634-99F2-F9ED738DCED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421F-986E-4F75-8D0E-B53B687C897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771-4B4F-4D21-986B-4BB5AEF7E0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di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-nology.com/web_tools/web_quest/" TargetMode="External"/><Relationship Id="rId3" Type="http://schemas.openxmlformats.org/officeDocument/2006/relationships/hyperlink" Target="http://www.teach-nology.com/web_tools/web_quest/" TargetMode="External"/><Relationship Id="rId4" Type="http://schemas.openxmlformats.org/officeDocument/2006/relationships/hyperlink" Target="http://www.eric.ed.gov/PDFS/EJ750569.pdf" TargetMode="External"/><Relationship Id="rId5" Type="http://schemas.openxmlformats.org/officeDocument/2006/relationships/hyperlink" Target="http://www.specialconnections.ku.edu/cgi-bin/cgiwrap/specconn/main.php?cat=instruction&amp;section=main&amp;subsection=udl/webquest" TargetMode="External"/><Relationship Id="rId6" Type="http://schemas.openxmlformats.org/officeDocument/2006/relationships/hyperlink" Target="http://www.specialconnections.ku.edu/cgi-bin/cgiwrap/specconn/main.php?cat=instruction&amp;section=main&amp;subsection=udl/webquest" TargetMode="External"/><Relationship Id="rId7" Type="http://schemas.openxmlformats.org/officeDocument/2006/relationships/hyperlink" Target="http://www.specialconnections.ku.edu/cgi-bin/cgiwrap/specconn/main.php?cat=instruction&amp;section=main&amp;subsection=udl/webquest" TargetMode="External"/><Relationship Id="rId8" Type="http://schemas.openxmlformats.org/officeDocument/2006/relationships/hyperlink" Target="http://www.specialconnections.ku.edu/cgi-bin/cgiwrap/specconn/main.php?cat=instruction&amp;section=main&amp;subsection=udl/webquest" TargetMode="External"/><Relationship Id="rId9" Type="http://schemas.openxmlformats.org/officeDocument/2006/relationships/hyperlink" Target="http://www.specialconnections.ku.edu/cgi-bin/cgiwrap/specconn/main.php?cat=instruction&amp;section=main&amp;subsection=udl/webquest" TargetMode="External"/><Relationship Id="rId10" Type="http://schemas.openxmlformats.org/officeDocument/2006/relationships/hyperlink" Target="http://www.specialconnections.ku.edu/cgi-bin/cgiwrap/specconn/main.php?cat=instruction&amp;section=main&amp;subsection=udl/webquest" TargetMode="External"/><Relationship Id="rId11" Type="http://schemas.openxmlformats.org/officeDocument/2006/relationships/hyperlink" Target="http://www.specialconnections.ku.edu/cgi-bin/cgiwrap/specconn/main.php?cat=instruction&amp;section=main&amp;subsection=udl/webques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docs" TargetMode="External"/><Relationship Id="rId3" Type="http://schemas.openxmlformats.org/officeDocument/2006/relationships/hyperlink" Target="http://www.google.com/docs" TargetMode="External"/><Relationship Id="rId4" Type="http://schemas.openxmlformats.org/officeDocument/2006/relationships/hyperlink" Target="http://www.google.com/docs" TargetMode="External"/><Relationship Id="rId5" Type="http://schemas.openxmlformats.org/officeDocument/2006/relationships/hyperlink" Target="http://www.diigo.com/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www.diigo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moredpenquin.com/" TargetMode="External"/><Relationship Id="rId3" Type="http://schemas.openxmlformats.org/officeDocument/2006/relationships/hyperlink" Target="http://www.merriam-webster.com/" TargetMode="External"/><Relationship Id="rId4" Type="http://schemas.openxmlformats.org/officeDocument/2006/relationships/hyperlink" Target="http://www.merriam-webster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ccessforall.net/" TargetMode="External"/><Relationship Id="rId3" Type="http://schemas.openxmlformats.org/officeDocument/2006/relationships/hyperlink" Target="http://testmoz.com/" TargetMode="External"/><Relationship Id="rId4" Type="http://schemas.openxmlformats.org/officeDocument/2006/relationships/hyperlink" Target="http://www.rubrics4teachers.com/" TargetMode="External"/><Relationship Id="rId5" Type="http://schemas.openxmlformats.org/officeDocument/2006/relationships/hyperlink" Target="http://www.rcampus.com/indexrubric.cf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di.htm" TargetMode="External"/><Relationship Id="rId3" Type="http://schemas.openxmlformats.org/officeDocument/2006/relationships/hyperlink" Target="http://www.you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hyperlink" Target="http://www.youtube.com/" TargetMode="External"/><Relationship Id="rId6" Type="http://schemas.openxmlformats.org/officeDocument/2006/relationships/hyperlink" Target="http://faculty.otterbein.edu/ckilbane/stateconf/" TargetMode="External"/><Relationship Id="rId7" Type="http://schemas.openxmlformats.org/officeDocument/2006/relationships/hyperlink" Target="http://theinnovativeeducator.blogspot.com/2008/07/using-renzulli-learning-system-to.html" TargetMode="External"/><Relationship Id="rId8" Type="http://schemas.openxmlformats.org/officeDocument/2006/relationships/hyperlink" Target="http://www.teach-nology.com/web_tools/web_quest/" TargetMode="External"/><Relationship Id="rId9" Type="http://schemas.openxmlformats.org/officeDocument/2006/relationships/hyperlink" Target="http://www.teach-nology.com/web_tools/web_quest/" TargetMode="External"/><Relationship Id="rId10" Type="http://schemas.openxmlformats.org/officeDocument/2006/relationships/hyperlink" Target="http://www.eric.ed.gov/PDFS/EJ750569.pdf" TargetMode="External"/><Relationship Id="rId11" Type="http://schemas.openxmlformats.org/officeDocument/2006/relationships/hyperlink" Target="http://www.specialconnections.ku.edu/cgi-bin/cgiwrap/specconn/main.php?cat=instruction&amp;section=main&amp;subsection=udl/webquest" TargetMode="External"/><Relationship Id="rId12" Type="http://schemas.openxmlformats.org/officeDocument/2006/relationships/hyperlink" Target="http://www.specialconnections.ku.edu/cgi-bin/cgiwrap/specconn/main.php?cat=instruction&amp;section=main&amp;subsection=udl/webquest" TargetMode="External"/><Relationship Id="rId13" Type="http://schemas.openxmlformats.org/officeDocument/2006/relationships/hyperlink" Target="http://www.specialconnections.ku.edu/cgi-bin/cgiwrap/specconn/main.php?cat=instruction&amp;section=main&amp;subsection=udl/webquest" TargetMode="External"/><Relationship Id="rId14" Type="http://schemas.openxmlformats.org/officeDocument/2006/relationships/hyperlink" Target="http://www.specialconnections.ku.edu/cgi-bin/cgiwrap/specconn/main.php?cat=instruction&amp;section=main&amp;subsection=udl/webquest" TargetMode="External"/><Relationship Id="rId15" Type="http://schemas.openxmlformats.org/officeDocument/2006/relationships/hyperlink" Target="http://www.specialconnections.ku.edu/cgi-bin/cgiwrap/specconn/main.php?cat=instruction&amp;section=main&amp;subsection=udl/webquest" TargetMode="External"/><Relationship Id="rId16" Type="http://schemas.openxmlformats.org/officeDocument/2006/relationships/hyperlink" Target="http://www.specialconnections.ku.edu/cgi-bin/cgiwrap/specconn/main.php?cat=instruction&amp;section=main&amp;subsection=udl/webquest" TargetMode="External"/><Relationship Id="rId17" Type="http://schemas.openxmlformats.org/officeDocument/2006/relationships/hyperlink" Target="http://www.specialconnections.ku.edu/cgi-bin/cgiwrap/specconn/main.php?cat=instruction&amp;section=main&amp;subsection=udl/webquest" TargetMode="External"/><Relationship Id="rId18" Type="http://schemas.openxmlformats.org/officeDocument/2006/relationships/hyperlink" Target="http://www.ning.com/" TargetMode="External"/><Relationship Id="rId19" Type="http://schemas.openxmlformats.org/officeDocument/2006/relationships/hyperlink" Target="http://www.ning.com/" TargetMode="External"/><Relationship Id="rId20" Type="http://schemas.openxmlformats.org/officeDocument/2006/relationships/hyperlink" Target="http://www.ning.com/" TargetMode="External"/><Relationship Id="rId21" Type="http://schemas.openxmlformats.org/officeDocument/2006/relationships/hyperlink" Target="http://www.diigo.com/" TargetMode="External"/><Relationship Id="rId22" Type="http://schemas.openxmlformats.org/officeDocument/2006/relationships/hyperlink" Target="http://www.diigo.com/" TargetMode="External"/><Relationship Id="rId23" Type="http://schemas.openxmlformats.org/officeDocument/2006/relationships/hyperlink" Target="http://www.diigo.com/" TargetMode="External"/><Relationship Id="rId24" Type="http://schemas.openxmlformats.org/officeDocument/2006/relationships/hyperlink" Target="http://www.google.com/docs" TargetMode="External"/><Relationship Id="rId25" Type="http://schemas.openxmlformats.org/officeDocument/2006/relationships/hyperlink" Target="http://www.google.com/docs" TargetMode="External"/><Relationship Id="rId26" Type="http://schemas.openxmlformats.org/officeDocument/2006/relationships/hyperlink" Target="http://www.google.com/docs" TargetMode="External"/><Relationship Id="rId27" Type="http://schemas.openxmlformats.org/officeDocument/2006/relationships/hyperlink" Target="http://www.armoredpenquin.com/" TargetMode="External"/><Relationship Id="rId28" Type="http://schemas.openxmlformats.org/officeDocument/2006/relationships/hyperlink" Target="http://www.sadlier-oxford.com/vocabulary/games.cfm?level=C" TargetMode="External"/><Relationship Id="rId29" Type="http://schemas.openxmlformats.org/officeDocument/2006/relationships/hyperlink" Target="http://www.sadlier-oxford.com/vocabulary/games.cfm?level=C" TargetMode="External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365040" y="1255680"/>
            <a:ext cx="86266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the sky blue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’s just a matter of reviewing the prope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oo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implementing them with the proper supervis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Differentiated Instructi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internet4classrooms.com/di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ources for differentiating: content, process, produ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youtube.com/watch?v=FJMkcL6Do0Q&amp;safety_mode=true&amp;persist_safety_mode=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ice video introduction—poor Lil’ Lulu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faculty.otterbein.edu/ckilbane/stateconf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ns of tools/links for differentiating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theinnovativeeducator.blogspot.com/2008/07/using-renzulli-learning-system-to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sessments for grouping—The Renzuli Learning System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Web Ques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teach-nology.com/web_tools/web_quest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n’t know where to start? Here’s help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eric.ed.gov/PDFS/EJ750569.pd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cellent article for differentiating within Web Quests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specialconnections.ku.edu/cgi-bin/cgiwrap/specconn/main.php?cat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instruction&amp;section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main&amp;subsection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udl/webque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b Quest tools for kids with special nee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 Online Communication/ Collabo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google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do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. 3 of Top 100 Tech. Tools for Learning, 201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ning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ing is great for creating learning commun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www.diigo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ke Delicious, but includes a highlight/ sticky note featu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 Vocabulary Strategies and Games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armoredpenquin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st, free, great for students and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merriam-webster.com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more arguments about pronunciati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sadlier-oxford.com/vocabulary/games.cfm?level=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schools use this series– many activ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Assessment and Rubric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uccessforall.net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od ol’ 4Sight is h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testmoz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ee” isn’t so common with this stuf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ubric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rubrics4teachers.com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dvertised– saves teachers time and mone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rcampus.com/indexrubric.cf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kes for easy grading to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internet4classrooms.com/di.ht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youtube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http://faculty.otterbein.edu/ckilbane/stateconf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ttp://theinnovativeeducator.blogspot.com/2008/07/using-renzulli-learning-system-to.htm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www.teach-nology.com/web_tools/web_quest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http://www.eric.ed.gov/PDFS/EJ750569.pdf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tp://www.specialconnections.ku.edu/cgi-bin/cgiwrap/specconn/main.php?cat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instruction&amp;section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main&amp;subsection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udl/webques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9"/>
              </a:rPr>
              <a:t>www.ning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1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2"/>
              </a:rPr>
              <a:t>www.diigo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4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5"/>
              </a:rPr>
              <a:t>www.google.com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6"/>
              </a:rPr>
              <a:t>/do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7"/>
              </a:rPr>
              <a:t>www.armoredpenquin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8"/>
              </a:rPr>
              <a:t>http://www.sadlier-oxford.com/vocabulary/games.cfm?level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9"/>
              </a:rPr>
              <a:t>=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merriam-webster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successforall.net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testmoz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rubrics4teachers.com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rcampus.com/indexrubric.cf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ttp://www.c4lpt.co.uk/recommended/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51:51Z</dcterms:created>
  <dc:creator>Brent Monaghan</dc:creator>
  <dc:description/>
  <dc:language>en-US</dc:language>
  <cp:lastModifiedBy>bmonaghan</cp:lastModifiedBy>
  <dcterms:modified xsi:type="dcterms:W3CDTF">2011-04-11T16:46:46Z</dcterms:modified>
  <cp:revision>59</cp:revision>
  <dc:subject/>
  <dc:title>Is the internet a viable tool for student learning?</dc:title>
</cp:coreProperties>
</file>